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24E-C96A-4DA1-A637-511938D1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946D-1384-47E1-B723-24B0CEAE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F63-6E21-41B9-B1C5-D1F6CB5C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99FC-5CC6-4808-85E3-F5C872A6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04BEA-2DA7-472A-BB38-55C89C0F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3365C-6CBC-41D4-8C0C-B0693335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E30D0-366E-4086-9F86-06A4B211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9BA6A-31C6-45B1-9741-CDBD1B45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20EB7E-3845-40B8-BC2D-1FB8BA1D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1ACA3-13A8-4EA8-AA99-92CF7ECC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A4249-1B4D-4F55-9A94-4EAEE0B5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6B8-40EC-40CF-B36A-6B120BF6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394F0-8800-4AD9-A83B-9E8F7C19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3D320-6FF3-445A-9DC1-B22716E7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735F2-955B-4FDA-B954-EB32F30F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1DCD9-AB5A-4EE0-B428-66D1A252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51F5D-8857-4482-A97D-21AEEF0B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5B3-6E21-4390-9207-CC2F1BE4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8C2-3AA1-45D2-AA63-9B307295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732-42CF-4A75-A92A-82F048F6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223-62E6-4D3E-890F-0F1076B3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E6D-F87A-4068-8E77-613CB53E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BD7-F3EB-4981-A76A-715A96AE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4DB-493D-4C44-9BFF-2B3FFD5C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897B-4A51-45AE-A2FC-28D9160BE3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2AF5-EF72-4DF2-8284-136B54ECD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Imagem:Tales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t.wikipedia.org/wiki/Filosofia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ahoma"/>
              </a:rPr>
              <a:t>MATEMÁTICA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58920" y="386028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 CIÊNCIA SOBERANA”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692280"/>
            <a:ext cx="864216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ando que os triângulos retângulos ABD e CDE são semelhantes, conclui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o p (altura da estaca), d (sombra da estaca), b (lado da base da pirâmide) e s (sombra da pirâmide) podem ser medidas diretamente, o valor de h (altura da pirâmide) fica determin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 valor encontrado por Tales como altura aproximada da pirâmide foi de 140 me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84360" y="1628640"/>
                <a:ext cx="662436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h</m:t>
                        </m:r>
                      </m:num>
                      <m:den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Daí,    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slow">
    <p:newsflash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15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0" dur="1155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2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4" dur="115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3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3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476280"/>
            <a:ext cx="8351640" cy="57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tribuições para Matemát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ribui-se a Tales a origem da organização dedutiva da geometria. Ele foi o primeiro homem da história a formular propriedades gerais sobre figuras geométricas, como, por exemplo, o famoso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orema de Ta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que acabamos de estud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que se refere às suas contribuições à matemática, elas se resumem a resultados (ou teoremas) de geometria que ele, de algum modo, teria conseguido provar. Trata-se de resultados esparsos e os métodos de demonstração usados por Tales possivelmente se baseavam mais na experimentação do que em raciocínios abstratos. Seguem seus enunci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77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6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89000"/>
            <a:ext cx="8642160" cy="68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do diâmetro bissecta um círcu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 ângulos da base de um triângulo isósceles são congru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Ângulos opostos pelo vértice são congru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dois triângulos são tais que dois ângulos e um lado de um são congruentes respectivamente a dois ângulos e um lado do outro, então os triângulos são congru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do ângulo inscrito em um semicírculo é re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 fato de Tales haver demonstrado , de alguma maneira esses teoremas não significa que ele tenha descoberto as propriedades correspondentes. Por exemplo, o último desses resultados já era conhecido pelos babilônios cerca de 1400 anos antes de Tales. Mas os babilônios jamais pensaram em enunciar genericamente as propriedades geométricas que conheciam e muito menos em prová-las, como Tales pare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64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193680"/>
            <a:ext cx="8642160" cy="66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 feito com as cinco citadas aqu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É curioso que entre os resultados atribuídos a Tales não figura explicitamente o teorema que trata de um feixe de retas paralelas cortadas por duas transversais, teorema esse conhecido entre nós como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orema de Ta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Mas o crédito tem algum fundamento, uma vez que o cálculo da altura da pirâmide pressupõe o conhecimento de proporções, e portanto tem ligações com esse teorema. Diga-se de passagem, porém, que na literatura matemática de um modo geral, é mais comum atribuir-se o nome de Tales ao quinto dos teoremas da relação acima. De qualquer forma, a homenagem a ele é merec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É claro que não se pode avaliar o mérito de Tales apenas pelos teoremas atribuídos a ele, aliás poucos e hoje elementares. Muito mais importante foi a mudança de rumo que ele imprimiu à matemática, colocando-a no caminho da modernidad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1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Ao longo do tempo muitos homens conseguiram atingir o êxtase da criação. A estes homens dá-se o nome de </a:t>
            </a:r>
            <a:r>
              <a:rPr b="1" lang="pt-BR" sz="2800" spc="-1" strike="noStrike">
                <a:solidFill>
                  <a:srgbClr val="ffffff"/>
                </a:solidFill>
                <a:latin typeface="Comic Sans MS"/>
              </a:rPr>
              <a:t>MATEMÁTICOS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”</a:t>
            </a: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!!!</a:t>
            </a:r>
            <a:r>
              <a:rPr b="0" lang="pt-BR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ahoma"/>
              </a:rPr>
              <a:t>Prof°: Thiago Magalhã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800" spc="-1" strike="noStrike">
                <a:solidFill>
                  <a:srgbClr val="ffffff"/>
                </a:solidFill>
                <a:latin typeface="Rockwell Extra Bold"/>
              </a:rPr>
              <a:t>FIM!!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77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6" dur="77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8" dur="77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0" dur="77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5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4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9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M POUCO DE HISTÓT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matemática, no sentido moderno da palavra, teve origem em algumas cidades-Estado gregas, por volta do século VI a.C. Isso não significa que não tivesse havido descobertas matemáticas até então. Muito pelo contrário. A matemática babilônica, egípcia e chinesa havia alcançado um bom nível. Mas os métodos empíricos usados por esses povos não favoreciam grandes saltos à frente, os quais só foram possíveis quando além do “como fazer” a matemática começou a se preocupar também com o porquê de seus procedimento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8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549360"/>
            <a:ext cx="8064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 isso aconteceu pela primeira vez na história da matemática nas cidades gregas a que já nos referim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É claro que esse novo rumo da matemática não foi obra de um único homem nem tampouco surgiu da noite para o dia. Mas , a julgar pelos dados históricos de que dispomos, quem deu os primeiros passos significativos nesse sentido foi “TALES DE MILETO” (625 – 547 a.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 qual vamos, nesse momento, conhecer um pouco de sua biografia, contos e contribuições importantes para a matemátic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11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07160" y="620640"/>
            <a:ext cx="673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TALES DE MILET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(625 – 547 a.C.)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0360" y="2781360"/>
            <a:ext cx="2592360" cy="3822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15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333360"/>
            <a:ext cx="8064360" cy="60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IOGRAFI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les de Mileto foi o primeiro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filósof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ocidental de que se tem notícia. Ele é o marco inicial da filosofia ocidental. De ascendência fenícia, nasceu em Mileto, antiga colônia grega, na Ásia menor, atual Turquia, por volta de 625 a.C. e faleceu aproximadamente em 547 a.C. - segundo o historiador grego Diógenes Laércio, morreu com 78 anos durante a 58ª Olimpí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iderado um dos sete sábios da antiguidade e também o “pai da filosofia”, Tales preocupou-se em entender e explicar o universo, em vez de simplesmente curvar-se diante de seus misté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sim sendo, era natural que se preocupasse também com os “por quês”? da matemática, uma matéria muito ligada à filosofia em suas raíz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7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4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692280"/>
            <a:ext cx="792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be-se pouco sobre a vida de Tales. Tudo indica que era uma pessoa muito inteligente e muito curiosa e que elegeu o saber como seu objetivo de vida principal. Mas na época de Tales a Grécia ainda não era a grande potência cultural que viria a se tornar dois ou três séculos depois. Por isso, é bem possível que boa parte do conhecimento de Tales tenha sido adquirida no Egito e na Mesopotâmia, que nessa época eram centros culturalmente mais avançados que a Grécia, particularmente em matemática e astronomia. Quando retornou a Mileto, sua cidade natal, ganhou merecido respeito de seus concidadãos como estadista, filósofo, matemático e astrônom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les também foi comerciante e geômetra, era um homem divertido que amava viajar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53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9640" y="476280"/>
            <a:ext cx="8064720" cy="64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NT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respeito de Tales, relatam-se algumas histórias engraçadas, que podem não ser verdadeiras, mas, de todo modo, são bastante interessantes e ilustrativ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-se que, tendo previsto uma grande safra de azeitonas, alugou todas as prensas da região de Mileto, a um preço bastante baixo. Depois, com a chegada da colheita, alugou-as pelo preço que quis e ganhou muito dinheiro. Dizem que fez isso apenas para mostrar que os filósofos podem ficar ricos se esse for o seu desej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-se que ele assombrou os seus contemporâneos ao predizer o eclipse solar ocorrido no ano de 585 a.C.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77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5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7" dur="77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94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8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2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6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189000"/>
            <a:ext cx="8424720" cy="68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-se que sua mula levava um carregamento de sal e, ao passar por um riacho, caiu nele e percebeu que parte de sua carga havia sido dissolvida na água, diminuindo o peso. Numa outra oportunidade, o esperto animal rolou-se novamente nas águas aliviando a sua carga. Tales mandou então que seus criados carregassem a mula com grande quantidade de esponjas. Ao passar pelo rio, o animal rolou-se na água. As esponjas intumesceram e tornaram a carga mais pesada. Dizem que o animal nunca mais se aventurou nesse tipo de experiênci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-se que, estando em visita ao Egito, o faraó, conhecendo a fama do grande matemático, pediu a ele que medisse a altura de uma pirâmide sem, no entanto, subir nela. Tales foi até uma das pirâmides, acompanhado de alguns matemáticos egípcios. Tomou uma estaca de madeira, marcou na areia o seu comprimento, colocou a estaca na posição ver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7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9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4046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404640"/>
            <a:ext cx="86421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 esperou que a sombra da estaca ficasse igual ao seu comprimento. Aí foi só medir a sombra da pirâmide e somar com a metade da medida do lado de sua base. Essa soma era exatamente a altura da pirâmide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ja o esboço a segu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5280" y="2536920"/>
            <a:ext cx="8136000" cy="3987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3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7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19:37:13Z</dcterms:created>
  <dc:creator>usuario</dc:creator>
  <dc:description/>
  <dc:language>en-US</dc:language>
  <cp:lastModifiedBy>usuario</cp:lastModifiedBy>
  <dcterms:modified xsi:type="dcterms:W3CDTF">2006-08-14T00:53:38Z</dcterms:modified>
  <cp:revision>7</cp:revision>
  <dc:subject/>
  <dc:title>MATEMÁTICA</dc:title>
</cp:coreProperties>
</file>